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264B-6952-46AC-A8C8-9A279806A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CBF6-8F31-4761-B7B8-22EBBD48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8761-96F0-450D-B5DF-628BA1539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23F5-9883-41FB-8FA2-C14128323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1CDF-47A2-4978-811E-4CEB21A3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4C08-85B2-4F07-B9C7-3F6DB4E0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EFD4-BD97-43CA-BD59-8ABF1781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F8A7-4CFB-44E9-85F5-F3337598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E14F-6166-484E-94EB-C3123607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55D8-32AC-4DE7-AFEE-B55AF65E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9359-1CC5-41D4-AD13-36E8CA6E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BFF8-9836-4B82-B2A1-C9C48271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53E8-08EB-4218-B3B3-4D3E7EF11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5228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/C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752480"/>
            <a:ext cx="213372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1752480"/>
            <a:ext cx="2133360" cy="1371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343400"/>
            <a:ext cx="21337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D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57200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800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4419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5" idx="2"/>
            <a:endCxn id="44" idx="2"/>
          </p:cNvCxnSpPr>
          <p:nvPr/>
        </p:nvCxnSpPr>
        <p:spPr>
          <a:xfrm flipH="1" rot="16200000">
            <a:off x="2724120" y="3790800"/>
            <a:ext cx="228960" cy="3619800"/>
          </a:xfrm>
          <a:prstGeom prst="bentConnector3">
            <a:avLst>
              <a:gd name="adj1" fmla="val 2012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1373760" y="594360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*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1905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6480" y="15238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81480" y="2438280"/>
            <a:ext cx="1067040" cy="1905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7949000">
            <a:off x="4384440" y="30063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endCxn id="55" idx="3"/>
          </p:cNvCxnSpPr>
          <p:nvPr/>
        </p:nvCxnSpPr>
        <p:spPr>
          <a:xfrm flipH="1" flipV="1" rot="5400000">
            <a:off x="5886360" y="3485880"/>
            <a:ext cx="1219320" cy="1562760"/>
          </a:xfrm>
          <a:prstGeom prst="bentConnector3">
            <a:avLst>
              <a:gd name="adj1" fmla="val 404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715000" y="4419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4" idx="3"/>
            <a:endCxn id="55" idx="4"/>
          </p:cNvCxnSpPr>
          <p:nvPr/>
        </p:nvCxnSpPr>
        <p:spPr>
          <a:xfrm flipV="1">
            <a:off x="5715000" y="3238560"/>
            <a:ext cx="1981440" cy="1791000"/>
          </a:xfrm>
          <a:prstGeom prst="bentConnector3">
            <a:avLst>
              <a:gd name="adj1" fmla="val 11172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021720" y="510552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066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743200" y="1066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9280" y="990720"/>
            <a:ext cx="98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pu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,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[content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18440" y="1143000"/>
            <a:ext cx="99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ge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2819520"/>
            <a:ext cx="838080" cy="838080"/>
          </a:xfrm>
          <a:prstGeom prst="can">
            <a:avLst>
              <a:gd name="adj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200040" y="312372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320040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12200" y="3276720"/>
            <a:ext cx="12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poRef*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1752480"/>
            <a:ext cx="1219320" cy="3049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1752480"/>
            <a:ext cx="3045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1752480"/>
            <a:ext cx="3049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4343400"/>
            <a:ext cx="99072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5791320"/>
            <a:ext cx="1143000" cy="8380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521800">
            <a:off x="5714640" y="5715000"/>
            <a:ext cx="533520" cy="304920"/>
          </a:xfrm>
          <a:prstGeom prst="leftRightArrow">
            <a:avLst>
              <a:gd name="adj1" fmla="val 50000"/>
              <a:gd name="adj2" fmla="val 348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TopologyRe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xtremely important facet to the entire JBN Admin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webdav clients get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the higher levels talk to the virtual fil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server refers to multip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(refers to 1 or more n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(refers to 1 and only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ype looks the same syntatically; semantically they are different (one has wildcards and/or may refer to multiple nodes; the other only refers to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logy 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{rtype};domain={s};platform={s}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={s};{dist-ext};{rtype-ex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} := [file|jmx|snmp|??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s} := any string, possibly a wild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dist-ext} := distribution type extensions in the form of [;{s1}={s2}] where {s1} is the name string and {s2} is the value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-ext} := resource type extensions in the form of [;{s1}={s2}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 infers a distribution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 reference extensions allow you to further define the thing being referenced using additional qual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rtype-ext} for “file” types can be “;path=/a.t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dist-ext} for distribution type of “jboss401” can be “;server=all;application=slide.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do everything we want without {dist-ext}, it’ll just be “less ni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Topology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prod;platform=alice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*;distributionName=myapache;path=/conf/http.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alice,bob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jmx;domain=*;platform=*;distributionName=myjboss;objectName=x:nm=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ic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2280" y="1295280"/>
            <a:ext cx="3276720" cy="1828800"/>
            <a:chOff x="152280" y="1295280"/>
            <a:chExt cx="3276720" cy="1828800"/>
          </a:xfrm>
        </p:grpSpPr>
        <p:sp>
          <p:nvSpPr>
            <p:cNvPr id="83" name=""/>
            <p:cNvSpPr/>
            <p:nvPr/>
          </p:nvSpPr>
          <p:spPr>
            <a:xfrm>
              <a:off x="152280" y="1295280"/>
              <a:ext cx="3276720" cy="1828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1599840"/>
              <a:ext cx="121932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t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828800" y="1599840"/>
              <a:ext cx="1294920" cy="533520"/>
              <a:chOff x="1828800" y="1599840"/>
              <a:chExt cx="1294920" cy="533520"/>
            </a:xfrm>
          </p:grpSpPr>
          <p:sp>
            <p:nvSpPr>
              <p:cNvPr id="86" name=""/>
              <p:cNvSpPr/>
              <p:nvPr/>
            </p:nvSpPr>
            <p:spPr>
              <a:xfrm>
                <a:off x="1828800" y="159984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4760" y="167616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09480" y="2057040"/>
              <a:ext cx="1219320" cy="457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048120" y="3048120"/>
            <a:ext cx="5790960" cy="33526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3581280"/>
            <a:ext cx="518148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191120"/>
            <a:ext cx="144756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5029200"/>
            <a:ext cx="14475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371600"/>
            <a:ext cx="4191120" cy="1447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1676520"/>
            <a:ext cx="3581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2362320"/>
            <a:ext cx="762120" cy="1828800"/>
          </a:xfrm>
          <a:custGeom>
            <a:avLst/>
            <a:gdLst>
              <a:gd name="textAreaLeft" fmla="*/ 0 w 762120"/>
              <a:gd name="textAreaRight" fmla="*/ 762480 w 7621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3" idx="0"/>
            <a:endCxn id="91" idx="2"/>
          </p:cNvCxnSpPr>
          <p:nvPr/>
        </p:nvCxnSpPr>
        <p:spPr>
          <a:xfrm flipV="1">
            <a:off x="4686120" y="4876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3" idx="0"/>
            <a:endCxn id="92" idx="2"/>
          </p:cNvCxnSpPr>
          <p:nvPr/>
        </p:nvCxnSpPr>
        <p:spPr>
          <a:xfrm flipV="1">
            <a:off x="4686120" y="4876200"/>
            <a:ext cx="15246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3" idx="3"/>
            <a:endCxn id="99" idx="2"/>
          </p:cNvCxnSpPr>
          <p:nvPr/>
        </p:nvCxnSpPr>
        <p:spPr>
          <a:xfrm flipV="1">
            <a:off x="5410080" y="4876560"/>
            <a:ext cx="2324880" cy="496080"/>
          </a:xfrm>
          <a:prstGeom prst="curvedConnector2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6248520" y="2362320"/>
            <a:ext cx="761760" cy="1828800"/>
          </a:xfrm>
          <a:custGeom>
            <a:avLst/>
            <a:gdLst>
              <a:gd name="textAreaLeft" fmla="*/ 0 w 761760"/>
              <a:gd name="textAreaRight" fmla="*/ 762120 w 76176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3276720"/>
            <a:ext cx="2889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group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genous me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s have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which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ependent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 cluste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only hom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long i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fer to groups of things - with wildcards or do we add something else to topo r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extensions can we think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how we need to translate this syntax to conform to URL syntax spec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perly determine what a topo ref actually refers to, access to the topology database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4:32:57Z</dcterms:created>
  <dc:creator>John Mazzitelli</dc:creator>
  <dc:description/>
  <dc:language>en-US</dc:language>
  <cp:lastModifiedBy>John Mazzitelli</cp:lastModifiedBy>
  <dcterms:modified xsi:type="dcterms:W3CDTF">2005-05-03T05:57:29Z</dcterms:modified>
  <cp:revision>8</cp:revision>
  <dc:subject/>
  <dc:title>Slide 1</dc:title>
</cp:coreProperties>
</file>